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2D2B0-BF29-4A53-AC37-98DC36A02F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C1D35-FA46-46F6-9FCD-58A50428D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1DEDB-642B-4AC1-92EC-7B06C62FA7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1CC76-8403-4AFD-80E0-42F08B9C29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03E4F-7C94-40A2-8BD4-DFA9900EE7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5264E-3DCE-450A-BD6A-C611E688A4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32816-9FB7-464D-A3A8-CC5139C698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26177-BA9F-4831-AE82-EAD9630D5B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45B40-7044-4721-95CC-A47CA2DC11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49EDE-6A63-4E1A-AEA0-A72730409B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EF012-2730-42CA-B3BD-B5FD4A186A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E5EAD-53D8-4C0B-A852-1978D40149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E452C-C38F-4233-BD8D-C4BB44AAA9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903D3-BE13-4A8B-A44C-750D5EB84D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D80E7-7EF9-49D1-A800-1D2B88DBB4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6C7B9-7F62-4B4F-8570-770C5CAFE4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17FC6-C1D9-43CD-AD2F-97A320FD22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C44FE-2321-446E-B159-F5BBE5F1EF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CA3FA-4400-436B-8AF1-3759460D3B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EB39B-B343-49AB-8240-0B105699E4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ACF4A-E202-4909-8E84-012A37D0C4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44B5D-1720-4DAD-A7E5-C1BED5AB02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481DD-8D11-4B3B-8C4F-17191E3373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39322-A9E1-4230-995F-21FEE74718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9530-7E6C-480C-AA0A-6209B825D56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rot="10800000">
            <a:off x="-1440" y="2514600"/>
            <a:ext cx="5461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ord – Lesson 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219320" y="6521400"/>
            <a:ext cx="76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icrosoft Office 2003 BASICS                              Pasewark &amp; Pasewar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E175-83FF-4434-83D0-3749AE4FD2C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6248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asewark &amp; Pasewar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3280" y="3429000"/>
            <a:ext cx="82818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Microsoft Office 2003 BASIC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ICROSOFT WORD</a:t>
            </a:r>
            <a:br>
              <a:rPr sz="36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esson 5 — Working with Graphic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82EB3-7414-480A-B770-39BADDBA44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hading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had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adding color, grays, or patterns to lines or paragraphs to emphasize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Format, Borders/Shading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select the Shading tab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C5A84-C908-4B2D-829B-106D80D599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hading Tab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62240" y="2492280"/>
            <a:ext cx="5226120" cy="388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09DEE-5D8D-4DCD-B967-BC78298CAF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Inserting Clip Ar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p art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– graphics that are already drawn and available for use in docum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nsert, Picture, ClipArt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Clip Art task pane appea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y a descriptive word in th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earch f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ox, and Word will search for images that match the text you enter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A5125-05A8-4E11-B7F6-30329C3FC2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Insert Clip Art Task Pan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35280" y="2637000"/>
            <a:ext cx="5562360" cy="342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FA7A6-6E45-4232-8AE9-E287FB32C3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electing Clip Ar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edit clip art, it must be selected. Position the insertion point over the clip art and clic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lection rectang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box with eight small squares that appears around the clip art when it is select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zing handl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squares on the selection rectangle used to adjust the size of the clip ar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385A5-CC1D-4F0B-9DA1-D44BB5869C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election Rectangl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376360" y="2781360"/>
            <a:ext cx="2754360" cy="3124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472000" y="32497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election Rectang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6720" y="447372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izing Handl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858920" y="357336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4895640" y="4329000"/>
            <a:ext cx="755640" cy="287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896000" y="4653000"/>
            <a:ext cx="792000" cy="8287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9B786-B03F-4FF2-B761-460202A56E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Resizing Clip Ar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resize clip art, click on the sizing handle and drag it inward or outwar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elect Picture, Format, Picture/Graphic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oose Size Tab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then change dimens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C550A-FAB0-49F3-95B3-32E3A0BF08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ize Tab 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19280" y="2565360"/>
            <a:ext cx="4213440" cy="375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EF388-9EA9-4624-A3F6-5B9760BAC3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Wrapping Tex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apping text around clip art saves space and makes the document look more professio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Format, Picture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hoos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layout ta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 Select the style of wrap you’d like your text to do around your graphi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LINE wrapping is still a style of formatting. It just doesn’t give you much control over your picture. (for placemen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D6337-84D2-4F56-A346-54B8F7D678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Layout Tab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698920" y="2492280"/>
            <a:ext cx="4213080" cy="379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35314-6976-437B-AD12-411878DED5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at text into colum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 borders and shading to paragraph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ert and scale clip ar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ap text around graph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 borders to pag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B421A-33DB-47F0-88F3-87FEBBAC7D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Adding Borders to Page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 the Page Border tab in the Borders and Shading dialog box. Choose the setting, line style, width, and color for the bord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Art box has predefined art borde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461E2-4EB0-4834-ACF7-7192E6BA51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age Border Tab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62240" y="2457360"/>
            <a:ext cx="5262480" cy="395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888D4-BA58-471F-93D2-5B452B85C2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Drawing Graphic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Drawing toolbar contains buttons for drawing and manipulating objects such as lines, arcs, rectangles, circles, and free-form shapes. 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View, Toolbars, Draw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jects that have been drawn can be resized, cut, and copied. You can also add color and change the line sty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DDA0F-EE17-4030-8AB0-540DB50F21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Drawing Graphics (cont.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34920" y="2744640"/>
            <a:ext cx="7812360" cy="313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06119-4BEE-4AC1-B83D-02D0AFE112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Text Box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add text to a document by adding a text box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nsert, Text Bo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click the Text Box button on the Drawing toolb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543640" y="4797360"/>
            <a:ext cx="1066680" cy="106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85B2E-D801-4A89-BC2A-0A1441EDF49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Documents can be created with multiple colum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Borders and shading add interest and emphasis to tex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You can insert clip art and scale it to fit the docu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You can wrap text around an objec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A89DF-0ABD-47FC-BF63-05B3896D8A5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  <a:ea typeface="Times New Roman"/>
              </a:rPr>
              <a:t>Summary (cont.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The Drawing toolbar allows you to draw shapes such as lines, rectangles, and ova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Drawing objects can be resized, copied, and moved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Text boxes can be created to contain special text for a docu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D9071-E000-4DE0-BFDF-0F0A895D29D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Objectives (cont.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aw objec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, resize, cut, copy, and paste objec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 text to drawing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C3B8E-0018-40E3-AFD1-75073D48AB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Terms Used in This Lesson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ord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p a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ph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a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ion rectang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a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zing hand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4DDF1-D1B3-49D0-85BC-43E9057D4D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Working with Graphic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Graphic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pictures that illustrate the meaning of text and make the page more attractiv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 has predefined pictures and shap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 includes drawing tools that enable you to create your own graphics and add them to your docum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1B135-6D73-49BA-ADBA-69EF09F1BF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reating Column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metimes a document, such as a newsletter, can be more effective if the text is formatted in multiple colum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elect Text, Format, Colum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click the Columns button on the Formatting toolb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56360" y="5013360"/>
            <a:ext cx="766800" cy="72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DA56E-8307-4337-A33C-055F4AD99A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olumns Dialog Box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411280" y="2492280"/>
            <a:ext cx="4932360" cy="390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03245-4DF5-4DF5-A3D6-1DCAB43CD9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Border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464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Border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– single, double, thick, or dotted lines that appear around words or paragraphs.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Format, Borders/Shading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Borders tab: places borders around TEXT (paragraph onl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Page tab: places border around the whole pa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036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41C62-6475-4717-B11F-BA981E3095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Borders and Shading Dialog Box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62240" y="2529000"/>
            <a:ext cx="5226120" cy="385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0E875-2CFE-4E11-9E0F-99CCCABFAD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9T08:43:46Z</dcterms:created>
  <dc:creator>Pasewark Co.</dc:creator>
  <dc:description/>
  <dc:language>en-US</dc:language>
  <cp:lastModifiedBy>LDSD</cp:lastModifiedBy>
  <dcterms:modified xsi:type="dcterms:W3CDTF">2009-10-19T17:09:31Z</dcterms:modified>
  <cp:revision>104</cp:revision>
  <dc:subject/>
  <dc:title>Microsoft Office XP: Introducto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hecked by">
    <vt:lpwstr>Virginia Ewbank</vt:lpwstr>
  </property>
</Properties>
</file>